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24C-C9A9-437E-B0A3-E4C43CF5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31720"/>
            <a:ext cx="9064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E2A-4E4C-4BE2-877A-76131A56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317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1317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FEF-2C9A-4856-8C5B-FFBEDDE8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317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1317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131720"/>
            <a:ext cx="291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037-DC72-4F89-B1A0-B3814EAF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9B2-850E-4800-BA38-F4EBB60B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96F-FD03-4995-84C8-B0FB243F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58E-9B52-4C3E-BDFE-9E768471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3EE-04E2-44AD-9152-7A0DD497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6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91F-F0C6-46B4-B8BA-E0CFD586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317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CDE-5752-4C5D-8D06-8F8FD6E0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1317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8E4-C602-4B60-9615-E41E8E1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31720"/>
            <a:ext cx="9064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91A-FCC6-4801-8847-E34A7508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670800"/>
            <a:ext cx="234144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670800"/>
            <a:ext cx="318924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670800"/>
            <a:ext cx="234180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5C51B-76A8-429F-BEBE-6EE174F542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0280" y="16002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280" y="382680"/>
            <a:ext cx="907092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arly Cold War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500040"/>
            <a:ext cx="86868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8088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F. NAT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North Atlantic Treaty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Formed a defensive military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Attack on one is an attack o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in US history the US 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military alliance during peac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US committed to maintaining peace in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8088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G. Warsaw Pac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talin develops the Warsaw Pact in response to N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ilitary alliance for his Eastern Europe satellite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8088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esson Objec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tudents will be able to explain what the US created to try and contain Commu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tudents will be able to discuss the Berlin Airlift and why it was sta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students will be able to the difference between NATO and the Warsaw P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A. Containing Communis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Long Tele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Explained Russia’s insecurities to a struggle between communism and capi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herefore, containment became the US’s foreign policy 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530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43600" y="1828800"/>
            <a:ext cx="2971800" cy="42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B. Crisis in Ira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s do not leave Northern Iran after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talin wanted oil supplies from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reated separate Communist govt in N.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US demands forces to leave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53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. Truman Doctrin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ist countries in helping prevent communism from entering their b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Started with Greece and Tur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530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3718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8088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D. The Marshall Pla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 will give aid to those European countries needing to rebuild their econo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SU and satellite nations refused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Western Europe’s recovery decreased appeal for commu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49800" y="1767960"/>
            <a:ext cx="4425840" cy="4529160"/>
          </a:xfrm>
          <a:prstGeom prst="rect">
            <a:avLst/>
          </a:prstGeom>
          <a:ln w="0">
            <a:noFill/>
          </a:ln>
        </p:spPr>
      </p:pic>
      <p:pic>
        <p:nvPicPr>
          <p:cNvPr id="60" name="MarshallPlan" descr=""/>
          <p:cNvPicPr/>
          <p:nvPr/>
        </p:nvPicPr>
        <p:blipFill>
          <a:blip r:embed=""/>
          <a:stretch/>
        </p:blipFill>
        <p:spPr>
          <a:xfrm>
            <a:off x="5257800" y="16002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8088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. Berlin Airlif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rotest unification of West Germany, Stalin orders blockade of West 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Goal: to fly in food and supplies into West 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Planes landing every 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Stalin sees blocka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neffective; calls it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49800" y="1767960"/>
            <a:ext cx="4425840" cy="4529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81520" y="1590840"/>
            <a:ext cx="459108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479520"/>
            <a:ext cx="8686800" cy="63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4952880" cy="381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14800" y="290664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1:52:43Z</dcterms:created>
  <dc:creator>Courtney Huro</dc:creator>
  <dc:description>Presentation Layout Template</dc:description>
  <dc:language>en-US</dc:language>
  <cp:lastModifiedBy/>
  <cp:revision>1</cp:revision>
  <dc:subject/>
  <dc:title>Blue and Red Gradient</dc:title>
</cp:coreProperties>
</file>